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3E8B-C0BB-4E37-B497-610047EA14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9E9A-7E2C-4358-A6CB-561E6C2C544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8FCF-3C2A-4EA1-9533-C3E6BA03A7C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7273-8616-4AA6-863E-CA6C9B86244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D4BC-0FF7-4BD0-8952-C67FB57B234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9142-B706-4B6C-8807-8DCB8CA8151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26AB-D327-453C-B75E-4BBAD216AB6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2203-CB88-4452-8C8A-A475681FE0D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ED90-4852-4F04-954B-D2B30AAE56E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DCD7-0CF9-4A55-BED7-553CA7C180E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70BB-6A24-41D4-8B76-40ECBF9776D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5B77-CA25-41A7-A423-EC4DFA1027E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B98C-903A-4996-8E2D-26FFC03D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B17E-F1B0-4932-95D3-3E16B9C3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1EAE-B1BD-47F5-AC12-292927119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8685-5E53-4007-92BC-39148E21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0C58-A209-45BE-9C8E-37CE99126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35D8-8ECB-4CE1-B9E7-E039DBFF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911B-4002-4532-8874-F1710124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FD09-1FCE-4A3E-B759-12354C12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388E-F586-4CBD-86FF-DE70FBE1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1F26-2747-460C-A060-D5521045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C491-C9E8-4FA8-8B92-94BA66D8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E50E-BF76-441F-A40D-B1769A92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E5C5-ECEB-4266-9025-ACF8E036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B4AB-58B4-48F5-AB0E-4F468F37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671F-3E0F-46B9-967D-FEDF6AAE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049A-BB92-430E-B4AD-0989FEE3F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5E53-8802-44D5-A4F3-C01C5C7F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348CD-C2E3-43AF-85C0-3E9EEF6B4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51345-E559-4C27-BCDF-FBEA17A9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88D37-85F8-46DF-B792-3E111FFC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B9A7E-E1F3-477B-9064-9DADFEFE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3864E-146F-406F-BCE0-97869E8F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BE1B-2DE4-45DF-9C7C-252C2E44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09A94-794F-4851-BF69-701A664B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45A57-E966-4F6F-9BED-FD60433E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C2E80-C818-4A5C-9EFB-13784494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4F1AF-E001-4456-952C-19772120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CA430-B01F-4E4E-99C1-84E97B24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FF4E2-9A03-4914-BF30-2B6E67321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7D343-5530-4D39-AC92-45FA82EE3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626F6-C8FC-4828-94A5-A78D2A6D4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7A4ED-D4D3-4466-90D1-45FDCD86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56B29-9F74-4713-B78C-103B1029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5356-A693-4771-AD96-F83CE57E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11470-7C1F-4722-9057-BC9B4B1B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47B51-5A7B-4799-8E53-E2EE421C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F10B8-6CDC-4E81-AC1F-F32C300F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3F03C-AE52-4AD0-BABB-E746698C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85089-9807-4313-B4A7-EAD6E87A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719A6-CE3D-40C2-8656-2364221C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F7CD3-2860-47FA-BA8E-1AB7CB9B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098F4-EEAA-4589-9843-98EB45B9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23E1D-B220-4B46-AA39-817CC33F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7CA36-C817-4294-881D-23B423C6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ACD1-72E0-4938-96A6-5434059F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AAFA5-E22A-4F5A-BD99-5D806119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E40EC-93C8-4E90-9BA5-5B44346F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33792-6DB0-4A8E-9ADE-202EA0EA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D675F-C2FE-4326-9CA2-1C7B5746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CAD06-F74F-4EBD-AD37-DCCFD144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ADD1D-7C5F-4FDD-9726-B2C9F34B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233C6-D1F1-47AF-A54B-0DE05FF9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0F979-E546-4017-8DFC-1E7B2EE4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B3E71-0938-4248-B97A-017003DC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88E2F-B5FF-4132-9ED5-B99FE463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8420-DF43-45F5-8F55-C03D55A8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CCB61-9EDE-4A06-942A-A9F680302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553E6-848B-49F3-AF0B-EDB25E4C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D39B1-7186-48AF-A28F-2AB8CE64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1320A-1AA7-4A83-B4D0-BD5F6E3C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E70F2-2741-4F54-80A2-5112135B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3A91B-F85F-45F9-B58F-31308FC9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EAF54-D675-4907-8514-38CD18F4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E620C-BF8D-4A20-A7F6-55AD2C9F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74C33-3BB1-4159-96D0-D689309F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817FB-AC0A-40F4-83F1-690D09EC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9151-B078-4DDE-84CB-3055F26E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E0D02-32BE-4182-9B3D-F5421258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69DE5-3D21-419B-B109-0BADC17DF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20CCC-7995-443A-9C63-FAD1AC8AA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C268-36A7-4105-9436-0B72875F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E34C-9FBF-414D-8311-5A5716C6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8B35-5D49-4696-A39B-98524DF13B2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EEF0-1BCD-462C-8D7C-2BA1DA3E757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FE57-8ABD-4FEE-BEC2-080B23D1B1F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5DCE-47A8-4E41-92E0-CC6AED12703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ADFA-C846-45B4-8406-A6CEF7D50AE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11B4-7C1B-452F-9489-D31D529BBCB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428640" y="1142640"/>
            <a:ext cx="4267080" cy="1816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a0b0"/>
                </a:solidFill>
                <a:latin typeface="Franklin Gothic Book"/>
              </a:rPr>
              <a:t>Problems and Projects in Education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2" name="Picture Placeholder 4" descr="th_anaastro-1.jpg"/>
          <p:cNvPicPr/>
          <p:nvPr/>
        </p:nvPicPr>
        <p:blipFill>
          <a:blip r:embed="rId1"/>
          <a:stretch/>
        </p:blipFill>
        <p:spPr>
          <a:xfrm>
            <a:off x="646200" y="1103400"/>
            <a:ext cx="1944720" cy="27795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504960" y="2971440"/>
            <a:ext cx="4190760" cy="3554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nnessee State Univer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CI 5910 96/97/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minar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ll Semester,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gnment #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ared by: Ana Sel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Do you school has a zero tolerance policy?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2" name="Sand29.wmv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p:transition advTm="102000"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100608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" dur="1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ny advice for new teachers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4" name="Sand26.wmv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492520" cy="4495680"/>
          </a:xfrm>
          <a:prstGeom prst="rect">
            <a:avLst/>
          </a:prstGeom>
          <a:ln w="0">
            <a:noFill/>
          </a:ln>
        </p:spPr>
      </p:pic>
    </p:spTree>
  </p:cSld>
  <p:transition advTm="133000">
    <p:dissolv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30816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" dur="1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492600" cy="24447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iew #1: Assistan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3" descr="Sanders4_0001.jpg"/>
          <p:cNvPicPr/>
          <p:nvPr/>
        </p:nvPicPr>
        <p:blipFill>
          <a:blip r:embed="rId2">
            <a:lum bright="14000"/>
          </a:blip>
          <a:stretch/>
        </p:blipFill>
        <p:spPr>
          <a:xfrm>
            <a:off x="5181480" y="4572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ho Am I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8" name="Sanders 21.wmv" descr=""/>
          <p:cNvPicPr/>
          <p:nvPr/>
        </p:nvPicPr>
        <p:blipFill>
          <a:blip r:embed="rId1"/>
          <a:stretch/>
        </p:blipFill>
        <p:spPr>
          <a:xfrm>
            <a:off x="1905120" y="1576440"/>
            <a:ext cx="5333760" cy="4062240"/>
          </a:xfrm>
          <a:prstGeom prst="rect">
            <a:avLst/>
          </a:prstGeom>
          <a:ln w="0">
            <a:noFill/>
          </a:ln>
        </p:spPr>
      </p:pic>
    </p:spTree>
  </p:cSld>
  <p:transition advTm="19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360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What is the best part of your job?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0" name="Sand22.wmv" descr=""/>
          <p:cNvPicPr/>
          <p:nvPr/>
        </p:nvPicPr>
        <p:blipFill>
          <a:blip r:embed="rId1"/>
          <a:stretch/>
        </p:blipFill>
        <p:spPr>
          <a:xfrm>
            <a:off x="1828800" y="209088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p:transition advTm="28000"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6816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What is the one thing you dislike about your job?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2" name="Sand23.wmv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5105520" cy="3657600"/>
          </a:xfrm>
          <a:prstGeom prst="rect">
            <a:avLst/>
          </a:prstGeom>
          <a:ln w="0">
            <a:noFill/>
          </a:ln>
        </p:spPr>
      </p:pic>
    </p:spTree>
  </p:cSld>
  <p:transition advTm="64000"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62464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249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Talk to me about Support 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dministration-Teacher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4" name="Sand24.wmv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172200" cy="3886200"/>
          </a:xfrm>
          <a:prstGeom prst="rect">
            <a:avLst/>
          </a:prstGeom>
          <a:ln w="0">
            <a:noFill/>
          </a:ln>
        </p:spPr>
      </p:pic>
    </p:spTree>
  </p:cSld>
  <p:transition advTm="60000"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55488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How would you like to be perceived by your teachers?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6" name="Sand25.wmv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4952880" cy="3505320"/>
          </a:xfrm>
          <a:prstGeom prst="rect">
            <a:avLst/>
          </a:prstGeom>
          <a:ln w="0">
            <a:noFill/>
          </a:ln>
        </p:spPr>
      </p:pic>
    </p:spTree>
  </p:cSld>
  <p:transition advTm="77000"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75392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How do you deal with a student-teacher conflict?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8" name="Sand28.wmv" descr=""/>
          <p:cNvPicPr/>
          <p:nvPr/>
        </p:nvPicPr>
        <p:blipFill>
          <a:blip r:embed="rId1"/>
          <a:stretch/>
        </p:blipFill>
        <p:spPr>
          <a:xfrm>
            <a:off x="1905120" y="169056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 advTm="65000">
    <p:dissolv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65280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610840" cy="1447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Do you have  graduated consequences for students who continually break school rules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0" name="Sand27.wmv" descr=""/>
          <p:cNvPicPr/>
          <p:nvPr/>
        </p:nvPicPr>
        <p:blipFill>
          <a:blip r:embed="rId1"/>
          <a:stretch/>
        </p:blipFill>
        <p:spPr>
          <a:xfrm>
            <a:off x="2133720" y="1981080"/>
            <a:ext cx="5225760" cy="3919680"/>
          </a:xfrm>
          <a:prstGeom prst="rect">
            <a:avLst/>
          </a:prstGeom>
          <a:ln w="0">
            <a:noFill/>
          </a:ln>
        </p:spPr>
      </p:pic>
    </p:spTree>
  </p:cSld>
  <p:transition advTm="155000"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54368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12:25:14Z</dcterms:created>
  <dc:creator>Owner</dc:creator>
  <dc:description/>
  <dc:language>en-US</dc:language>
  <cp:lastModifiedBy>Owner</cp:lastModifiedBy>
  <dcterms:modified xsi:type="dcterms:W3CDTF">2008-10-23T02:09:18Z</dcterms:modified>
  <cp:revision>39</cp:revision>
  <dc:subject/>
  <dc:title>Slide 1</dc:title>
</cp:coreProperties>
</file>